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7421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742800" cy="9907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0" y="0"/>
            <a:ext cx="6742080" cy="9907560"/>
          </a:xfrm>
          <a:custGeom>
            <a:avLst/>
            <a:gdLst>
              <a:gd name="textAreaLeft" fmla="*/ 360 w 6742080"/>
              <a:gd name="textAreaRight" fmla="*/ 6741720 w 67420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41">
                <a:moveTo>
                  <a:pt x="5" y="0"/>
                </a:moveTo>
                <a:arcTo wR="5" hR="5" stAng="16200000" swAng="-5400000"/>
                <a:lnTo>
                  <a:pt x="0" y="31736"/>
                </a:lnTo>
                <a:arcTo wR="5" hR="5" stAng="10800000" swAng="-5400000"/>
                <a:lnTo>
                  <a:pt x="21595" y="3174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589200" y="9459720"/>
            <a:ext cx="290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4/</a:t>
            </a:r>
            <a:fld id="{59231C20-FE72-4653-A249-722E206B2197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4734000" y="152280"/>
            <a:ext cx="1622520" cy="480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1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ldImg"/>
          </p:nvPr>
        </p:nvSpPr>
        <p:spPr>
          <a:xfrm>
            <a:off x="895320" y="752400"/>
            <a:ext cx="4950000" cy="371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Bitstream Vera Sans"/>
              </a:rPr>
              <a:t>Click to move the slid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767720" cy="83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7720" y="1676160"/>
            <a:ext cx="7844040" cy="206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837720" y="3942360"/>
            <a:ext cx="7844040" cy="206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767720" cy="83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7720" y="1676160"/>
            <a:ext cx="3827880" cy="206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57480" y="1676160"/>
            <a:ext cx="3827880" cy="206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37720" y="3942360"/>
            <a:ext cx="3827880" cy="206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857480" y="3942360"/>
            <a:ext cx="3827880" cy="206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767720" cy="83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7720" y="1676160"/>
            <a:ext cx="2525400" cy="206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489840" y="1676160"/>
            <a:ext cx="2525400" cy="206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41960" y="1676160"/>
            <a:ext cx="2525400" cy="206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837720" y="3942360"/>
            <a:ext cx="2525400" cy="206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489840" y="3942360"/>
            <a:ext cx="2525400" cy="206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41960" y="3942360"/>
            <a:ext cx="2525400" cy="206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767720" cy="83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837720" y="1676160"/>
            <a:ext cx="7844040" cy="43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767720" cy="83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837720" y="1676160"/>
            <a:ext cx="7844040" cy="433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767720" cy="83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7720" y="1676160"/>
            <a:ext cx="3827880" cy="433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857480" y="1676160"/>
            <a:ext cx="3827880" cy="433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767720" cy="83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837720" y="380520"/>
            <a:ext cx="7767720" cy="386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767720" cy="83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37720" y="1676160"/>
            <a:ext cx="3827880" cy="206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57480" y="1676160"/>
            <a:ext cx="3827880" cy="433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837720" y="3942360"/>
            <a:ext cx="3827880" cy="206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767720" cy="83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37720" y="1676160"/>
            <a:ext cx="3827880" cy="433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57480" y="1676160"/>
            <a:ext cx="3827880" cy="206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857480" y="3942360"/>
            <a:ext cx="3827880" cy="206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767720" cy="83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7720" y="1676160"/>
            <a:ext cx="3827880" cy="206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57480" y="1676160"/>
            <a:ext cx="3827880" cy="206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7720" y="3942360"/>
            <a:ext cx="7844040" cy="206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2120" y="6400800"/>
            <a:ext cx="6324480" cy="2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7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000" spc="-1" strike="noStrike">
                <a:solidFill>
                  <a:srgbClr val="6666ff"/>
                </a:solidFill>
                <a:latin typeface="Bitstream Vera Sans"/>
                <a:ea typeface="Tahoma"/>
              </a:rPr>
              <a:t>TTÜ 2007        T.Tammet     IT sissejuhatus loeng 6      lk     </a:t>
            </a:r>
            <a:r>
              <a:rPr b="1" lang="en-GB" sz="1400" spc="-1" strike="noStrike">
                <a:solidFill>
                  <a:srgbClr val="6666ff"/>
                </a:solidFill>
                <a:latin typeface="Bitstream Vera Sans"/>
                <a:ea typeface="Tahoma"/>
              </a:rPr>
              <a:t>- </a:t>
            </a:r>
            <a:fld id="{F56026B6-7C39-42E3-89F3-3CA9206A1A82}" type="slidenum">
              <a:rPr b="1" lang="en-GB" sz="1400" spc="-1" strike="noStrike">
                <a:solidFill>
                  <a:srgbClr val="6666ff"/>
                </a:solidFill>
                <a:latin typeface="Bitstream Vera Sans"/>
                <a:ea typeface="Tahoma"/>
              </a:rPr>
              <a:t>&lt;number&gt;</a:t>
            </a:fld>
            <a:r>
              <a:rPr b="1" lang="en-GB" sz="1400" spc="-1" strike="noStrike">
                <a:solidFill>
                  <a:srgbClr val="6666ff"/>
                </a:solidFill>
                <a:latin typeface="Bitstream Vera Sans"/>
                <a:ea typeface="Tahoma"/>
              </a:rPr>
              <a:t> -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38080" y="6324480"/>
            <a:ext cx="7772400" cy="1800"/>
          </a:xfrm>
          <a:prstGeom prst="line">
            <a:avLst/>
          </a:prstGeom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767720" cy="83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Bitstream Vera Sans"/>
              </a:rPr>
              <a:t>Click to edit the title text format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37720" y="1676160"/>
            <a:ext cx="7844040" cy="433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93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itstream Vera Sans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-281160">
              <a:lnSpc>
                <a:spcPct val="93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itstream Vera Sans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3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itstream Vera Sans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3" marL="1600200" indent="-228600">
              <a:lnSpc>
                <a:spcPct val="93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itstream Vera Sans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4" marL="2057400" indent="-228600">
              <a:lnSpc>
                <a:spcPct val="93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itstream Vera Sans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5" marL="2057400" indent="-228600"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itstream Vera Sans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6" marL="2057400" indent="-228600"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itstream Vera Sans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838080" y="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38080" y="762120"/>
            <a:ext cx="784872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8040" indent="-338040" algn="ctr">
              <a:lnSpc>
                <a:spcPct val="97000"/>
              </a:lnSpc>
              <a:spcBef>
                <a:spcPts val="90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 algn="ctr">
              <a:lnSpc>
                <a:spcPct val="97000"/>
              </a:lnSpc>
              <a:spcBef>
                <a:spcPts val="90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 algn="ctr">
              <a:lnSpc>
                <a:spcPct val="97000"/>
              </a:lnSpc>
              <a:spcBef>
                <a:spcPts val="90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 algn="ctr">
              <a:lnSpc>
                <a:spcPct val="97000"/>
              </a:lnSpc>
              <a:spcBef>
                <a:spcPts val="90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Bitstream Vera Sans"/>
              </a:rPr>
              <a:t>Sissejuhatus infotehnoloogiass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97000"/>
              </a:lnSpc>
              <a:spcBef>
                <a:spcPts val="349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97000"/>
              </a:lnSpc>
              <a:spcBef>
                <a:spcPts val="349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97000"/>
              </a:lnSpc>
              <a:spcBef>
                <a:spcPts val="349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914400" y="301320"/>
            <a:ext cx="7770960" cy="307800"/>
            <a:chOff x="914400" y="301320"/>
            <a:chExt cx="7770960" cy="307800"/>
          </a:xfrm>
        </p:grpSpPr>
        <p:sp>
          <p:nvSpPr>
            <p:cNvPr id="52" name=""/>
            <p:cNvSpPr/>
            <p:nvPr/>
          </p:nvSpPr>
          <p:spPr>
            <a:xfrm>
              <a:off x="914400" y="606600"/>
              <a:ext cx="77691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flipV="1">
              <a:off x="8683560" y="301320"/>
              <a:ext cx="180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Ühebitine mälukii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aks sisend- ja üks väljundjuh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914400" y="301320"/>
            <a:ext cx="7770960" cy="307800"/>
            <a:chOff x="914400" y="301320"/>
            <a:chExt cx="7770960" cy="307800"/>
          </a:xfrm>
        </p:grpSpPr>
        <p:sp>
          <p:nvSpPr>
            <p:cNvPr id="109" name=""/>
            <p:cNvSpPr/>
            <p:nvPr/>
          </p:nvSpPr>
          <p:spPr>
            <a:xfrm>
              <a:off x="914400" y="606600"/>
              <a:ext cx="77691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 flipV="1">
              <a:off x="8683560" y="301320"/>
              <a:ext cx="180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523880" y="1969920"/>
            <a:ext cx="6782040" cy="19605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Guarded 1-bitine mälukii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kstra lüliti kiibi sisse või väljalülimisek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914400" y="301320"/>
            <a:ext cx="7770960" cy="307800"/>
            <a:chOff x="914400" y="301320"/>
            <a:chExt cx="7770960" cy="307800"/>
          </a:xfrm>
        </p:grpSpPr>
        <p:sp>
          <p:nvSpPr>
            <p:cNvPr id="115" name=""/>
            <p:cNvSpPr/>
            <p:nvPr/>
          </p:nvSpPr>
          <p:spPr>
            <a:xfrm>
              <a:off x="914400" y="606600"/>
              <a:ext cx="77691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flipV="1">
              <a:off x="8683560" y="301320"/>
              <a:ext cx="180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447920" y="1730520"/>
            <a:ext cx="6095880" cy="23461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RA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Random-access memor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914400" y="301320"/>
            <a:ext cx="7770960" cy="307800"/>
            <a:chOff x="914400" y="301320"/>
            <a:chExt cx="7770960" cy="307800"/>
          </a:xfrm>
        </p:grpSpPr>
        <p:sp>
          <p:nvSpPr>
            <p:cNvPr id="121" name=""/>
            <p:cNvSpPr/>
            <p:nvPr/>
          </p:nvSpPr>
          <p:spPr>
            <a:xfrm>
              <a:off x="914400" y="606600"/>
              <a:ext cx="77691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>
              <a:off x="8683560" y="301320"/>
              <a:ext cx="180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914400" y="1752480"/>
            <a:ext cx="6858000" cy="42195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Ecki xCompu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http://math.hws.edu/TMCM/java/labs/xComputerLab1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rvuti põhiosade (protsessor + mälu) simulatsioon väikese Java programmiga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äsusüsteem sarnaneb väga esimeste päris-mikroprotsesoriteg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ihtsama arusaadavuse tõttu kasutab kahebaidiseid mälupesi (16 bitti), mitte ühebaidiseid, nagu harilik arvuti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älu on 1024 pesa (1 K), seega 2 Kbaiti.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adressi jaoks kasutusel 10 bitti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simestel koduarvutitel oli ka 4-16 Kbaiti (umbes sama hulk mälu)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914400" y="301320"/>
            <a:ext cx="7770960" cy="307800"/>
            <a:chOff x="914400" y="301320"/>
            <a:chExt cx="7770960" cy="307800"/>
          </a:xfrm>
        </p:grpSpPr>
        <p:sp>
          <p:nvSpPr>
            <p:cNvPr id="127" name=""/>
            <p:cNvSpPr/>
            <p:nvPr/>
          </p:nvSpPr>
          <p:spPr>
            <a:xfrm>
              <a:off x="914400" y="606600"/>
              <a:ext cx="77691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flipV="1">
              <a:off x="8683560" y="301320"/>
              <a:ext cx="180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Ecki xComputer 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8040" indent="-33804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Olulist: protsessori sees on väike hulk spetsiaal-mälupesi (registrid)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ehteid saab teha ainult nende registrite vahel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i ole näiteks võimalik liita otse kahte mälus olevat arvu: enne tuleb nad registritesse kopeerida, siis seal liita, siis tulemusregistrist (nn akumulaator) mäll kirjutada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oha, kust mälust loetakse/kirjutatakse näitab ADDR register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oha, kust lugeda järgmine käsk, näitab PC (program counter) regist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914400" y="301320"/>
            <a:ext cx="7770960" cy="307800"/>
            <a:chOff x="914400" y="301320"/>
            <a:chExt cx="7770960" cy="307800"/>
          </a:xfrm>
        </p:grpSpPr>
        <p:sp>
          <p:nvSpPr>
            <p:cNvPr id="132" name=""/>
            <p:cNvSpPr/>
            <p:nvPr/>
          </p:nvSpPr>
          <p:spPr>
            <a:xfrm>
              <a:off x="914400" y="606600"/>
              <a:ext cx="77691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flipV="1">
              <a:off x="8683560" y="301320"/>
              <a:ext cx="180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Käskude täitmi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38080" y="762120"/>
            <a:ext cx="7848720" cy="60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8040" indent="-33804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Kaks tsüklit üksteise see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10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10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Välimine tsükkel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suurendab igal ringil PC-d (program counterit), st igal ringil võetakse täidetav käsk järgmisest mälupesas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10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8360" indent="-281160">
              <a:lnSpc>
                <a:spcPct val="10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Sisemine tsükkel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 toimub iga käsu sees. Sisemise tsükli jooksul täidetakse käsu sisemisi pisi-samm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8360" indent="-281160">
              <a:lnSpc>
                <a:spcPct val="10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8360" indent="-281160">
              <a:lnSpc>
                <a:spcPct val="10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Üks pisi-samm vastab mingile juhtmele voolu peale andmisele, mispeale käivitub vastav loogika-ahel protessoris ja selle tulemus salvestatakse mõnda registriss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8360" indent="-281160">
              <a:lnSpc>
                <a:spcPct val="10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10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Masina taktsagedus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on see sagedus, kui tihti pisi-samme täidetakse. Iga järgmise pisi-sammu alustamise jaoks on masinas kell, mis annab kindla sagedusega impulsse. Pisi-sammu number saadakse nende impulsside kokkulugemisega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8360" indent="-281160">
              <a:lnSpc>
                <a:spcPct val="88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8360" indent="-281160">
              <a:lnSpc>
                <a:spcPct val="88000"/>
              </a:lnSpc>
              <a:spcBef>
                <a:spcPts val="349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  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914400" y="301320"/>
            <a:ext cx="7770960" cy="307800"/>
            <a:chOff x="914400" y="301320"/>
            <a:chExt cx="7770960" cy="307800"/>
          </a:xfrm>
        </p:grpSpPr>
        <p:sp>
          <p:nvSpPr>
            <p:cNvPr id="137" name=""/>
            <p:cNvSpPr/>
            <p:nvPr/>
          </p:nvSpPr>
          <p:spPr>
            <a:xfrm>
              <a:off x="914400" y="606600"/>
              <a:ext cx="77691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8683560" y="301320"/>
              <a:ext cx="180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xComputer-i põhiregistr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he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X and Y registers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hold two sixteen-bit binary numbers that are used as input by the ALU. For example, when the CPU needs to add two numbers, it must put them into the X and Y registers so that the ALU can be used to add them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he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AC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register is the accumulator. It is the CPU's "working memory" for its calculations. When the ALU is  used to compute a result, that result is stored in the AC. For example, if the numbers in the X and Y registers are added, then the answer will appear in the AC. Also, data can be moved from main memory into the AC and from the AC into main memory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he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FLAG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register stores the "carry-out" bit produced when the ALU adds two binary numbers. Also, when the ALU performs a shift-left or shift-right operation, the extra bit that is shifted off the end of the number is stored in the FLAG register.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914400" y="301320"/>
            <a:ext cx="7770960" cy="307800"/>
            <a:chOff x="914400" y="301320"/>
            <a:chExt cx="7770960" cy="307800"/>
          </a:xfrm>
        </p:grpSpPr>
        <p:sp>
          <p:nvSpPr>
            <p:cNvPr id="142" name=""/>
            <p:cNvSpPr/>
            <p:nvPr/>
          </p:nvSpPr>
          <p:spPr>
            <a:xfrm>
              <a:off x="914400" y="606600"/>
              <a:ext cx="77691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V="1">
              <a:off x="8683560" y="301320"/>
              <a:ext cx="180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... Registrid 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838080" y="762120"/>
            <a:ext cx="7848720" cy="548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he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ADDR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register specifies a location in main memory. The CPU often needs to read values from memory or write values to memory. Only one location in memory is accessible at any given time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he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PC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register is the program counter. The PC specifies the location in memory that holds the next instruction to be executed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he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IR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is the instruction register. When the CPU fetches a program instruction from main memory, this is where it puts it. The IR holds that instruction while it is being executed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he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COUNT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register counts off the steps in a fetch-and-execute cycle. It takes the CPU several steps to fetch and execute an instruction. When COUNT is 1, it does step 1; when COUNT is 2, it does step 2; and so forth.  Remember that as the COUNT register counts 0, 1, 2,..., just one machine language program is being executed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914400" y="301320"/>
            <a:ext cx="7770960" cy="307800"/>
            <a:chOff x="914400" y="301320"/>
            <a:chExt cx="7770960" cy="307800"/>
          </a:xfrm>
        </p:grpSpPr>
        <p:sp>
          <p:nvSpPr>
            <p:cNvPr id="147" name=""/>
            <p:cNvSpPr/>
            <p:nvPr/>
          </p:nvSpPr>
          <p:spPr>
            <a:xfrm>
              <a:off x="914400" y="606600"/>
              <a:ext cx="77691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V="1">
              <a:off x="8683560" y="301320"/>
              <a:ext cx="180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Hierarhia pistikutest progekeelten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838080" y="762120"/>
            <a:ext cx="784872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simene: programmeerimismeetod: kaablid ja pistiku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eine: von Neumanni arhitektuur, programm mälus binaarkoodina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01011101 01001011 01010101 11010101 10101001 ..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ihtsam kirjutada hexas, ntx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4A FC 09 B2 ..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olmas: Esmane progekeel: assembler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Üks masinakäsk: tüüpiliselt üks rida assembleriprogramm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Neljas: Harilik progekeel ehk nn kõrgkeel (fortran, basic, c, java, python jne jne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Harilikud valemid, if-then-else jne, a la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x=2*y+sin(y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914400" y="301320"/>
            <a:ext cx="7770960" cy="307800"/>
            <a:chOff x="914400" y="301320"/>
            <a:chExt cx="7770960" cy="307800"/>
          </a:xfrm>
        </p:grpSpPr>
        <p:sp>
          <p:nvSpPr>
            <p:cNvPr id="152" name=""/>
            <p:cNvSpPr/>
            <p:nvPr/>
          </p:nvSpPr>
          <p:spPr>
            <a:xfrm>
              <a:off x="914400" y="606600"/>
              <a:ext cx="77691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flipV="1">
              <a:off x="8683560" y="301320"/>
              <a:ext cx="180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Ecki assembler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664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his program counts. It starts by putting the number 1 into memory location 12, and then it adds one to the number in that location over and over, forever. 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914400" y="296640"/>
            <a:ext cx="7772400" cy="314280"/>
            <a:chOff x="914400" y="296640"/>
            <a:chExt cx="7772400" cy="314280"/>
          </a:xfrm>
        </p:grpSpPr>
        <p:sp>
          <p:nvSpPr>
            <p:cNvPr id="157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flipV="1">
              <a:off x="8685360" y="296640"/>
              <a:ext cx="1440" cy="3142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2378160" y="1901880"/>
            <a:ext cx="6627600" cy="28782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lvl="1" marL="736560" indent="-279360">
              <a:lnSpc>
                <a:spcPct val="94000"/>
              </a:lnSpc>
              <a:spcBef>
                <a:spcPts val="451"/>
              </a:spcBef>
              <a:tabLst>
                <a:tab algn="l" pos="0"/>
                <a:tab algn="l" pos="736560"/>
                <a:tab algn="l" pos="1193760"/>
                <a:tab algn="l" pos="1650960"/>
                <a:tab algn="l" pos="2108160"/>
                <a:tab algn="l" pos="2565360"/>
                <a:tab algn="l" pos="3022560"/>
                <a:tab algn="l" pos="3479760"/>
                <a:tab algn="l" pos="3936960"/>
                <a:tab algn="l" pos="4394160"/>
                <a:tab algn="l" pos="4851360"/>
                <a:tab algn="l" pos="5308560"/>
                <a:tab algn="l" pos="5765760"/>
                <a:tab algn="l" pos="6222960"/>
                <a:tab algn="l" pos="6680160"/>
                <a:tab algn="l" pos="7137360"/>
                <a:tab algn="l" pos="7594560"/>
                <a:tab algn="l" pos="8051760"/>
                <a:tab algn="l" pos="8508960"/>
                <a:tab algn="l" pos="8966160"/>
                <a:tab algn="l" pos="9423360"/>
                <a:tab algn="l" pos="988056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gothic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gothic"/>
              </a:rPr>
              <a:t>LOD-C 1     ; Set Count equal to 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6560" indent="-279360">
              <a:lnSpc>
                <a:spcPct val="94000"/>
              </a:lnSpc>
              <a:spcBef>
                <a:spcPts val="451"/>
              </a:spcBef>
              <a:tabLst>
                <a:tab algn="l" pos="0"/>
                <a:tab algn="l" pos="736560"/>
                <a:tab algn="l" pos="1193760"/>
                <a:tab algn="l" pos="1650960"/>
                <a:tab algn="l" pos="2108160"/>
                <a:tab algn="l" pos="2565360"/>
                <a:tab algn="l" pos="3022560"/>
                <a:tab algn="l" pos="3479760"/>
                <a:tab algn="l" pos="3936960"/>
                <a:tab algn="l" pos="4394160"/>
                <a:tab algn="l" pos="4851360"/>
                <a:tab algn="l" pos="5308560"/>
                <a:tab algn="l" pos="5765760"/>
                <a:tab algn="l" pos="6222960"/>
                <a:tab algn="l" pos="6680160"/>
                <a:tab algn="l" pos="7137360"/>
                <a:tab algn="l" pos="7594560"/>
                <a:tab algn="l" pos="8051760"/>
                <a:tab algn="l" pos="8508960"/>
                <a:tab algn="l" pos="8966160"/>
                <a:tab algn="l" pos="9423360"/>
                <a:tab algn="l" pos="98805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gothic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gothic"/>
              </a:rPr>
              <a:t>STO Cou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6560" indent="-279360">
              <a:lnSpc>
                <a:spcPct val="94000"/>
              </a:lnSpc>
              <a:spcBef>
                <a:spcPts val="451"/>
              </a:spcBef>
              <a:tabLst>
                <a:tab algn="l" pos="0"/>
                <a:tab algn="l" pos="736560"/>
                <a:tab algn="l" pos="1193760"/>
                <a:tab algn="l" pos="1650960"/>
                <a:tab algn="l" pos="2108160"/>
                <a:tab algn="l" pos="2565360"/>
                <a:tab algn="l" pos="3022560"/>
                <a:tab algn="l" pos="3479760"/>
                <a:tab algn="l" pos="3936960"/>
                <a:tab algn="l" pos="4394160"/>
                <a:tab algn="l" pos="4851360"/>
                <a:tab algn="l" pos="5308560"/>
                <a:tab algn="l" pos="5765760"/>
                <a:tab algn="l" pos="6222960"/>
                <a:tab algn="l" pos="6680160"/>
                <a:tab algn="l" pos="7137360"/>
                <a:tab algn="l" pos="7594560"/>
                <a:tab algn="l" pos="8051760"/>
                <a:tab algn="l" pos="8508960"/>
                <a:tab algn="l" pos="8966160"/>
                <a:tab algn="l" pos="9423360"/>
                <a:tab algn="l" pos="98805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gothic"/>
              </a:rPr>
              <a:t>Loop:  LOD Count   ; Add 1 to Cou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6560" indent="-279360">
              <a:lnSpc>
                <a:spcPct val="94000"/>
              </a:lnSpc>
              <a:spcBef>
                <a:spcPts val="451"/>
              </a:spcBef>
              <a:tabLst>
                <a:tab algn="l" pos="0"/>
                <a:tab algn="l" pos="736560"/>
                <a:tab algn="l" pos="1193760"/>
                <a:tab algn="l" pos="1650960"/>
                <a:tab algn="l" pos="2108160"/>
                <a:tab algn="l" pos="2565360"/>
                <a:tab algn="l" pos="3022560"/>
                <a:tab algn="l" pos="3479760"/>
                <a:tab algn="l" pos="3936960"/>
                <a:tab algn="l" pos="4394160"/>
                <a:tab algn="l" pos="4851360"/>
                <a:tab algn="l" pos="5308560"/>
                <a:tab algn="l" pos="5765760"/>
                <a:tab algn="l" pos="6222960"/>
                <a:tab algn="l" pos="6680160"/>
                <a:tab algn="l" pos="7137360"/>
                <a:tab algn="l" pos="7594560"/>
                <a:tab algn="l" pos="8051760"/>
                <a:tab algn="l" pos="8508960"/>
                <a:tab algn="l" pos="8966160"/>
                <a:tab algn="l" pos="9423360"/>
                <a:tab algn="l" pos="98805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gothic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gothic"/>
              </a:rPr>
              <a:t>IN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6560" indent="-279360">
              <a:lnSpc>
                <a:spcPct val="94000"/>
              </a:lnSpc>
              <a:spcBef>
                <a:spcPts val="451"/>
              </a:spcBef>
              <a:tabLst>
                <a:tab algn="l" pos="0"/>
                <a:tab algn="l" pos="736560"/>
                <a:tab algn="l" pos="1193760"/>
                <a:tab algn="l" pos="1650960"/>
                <a:tab algn="l" pos="2108160"/>
                <a:tab algn="l" pos="2565360"/>
                <a:tab algn="l" pos="3022560"/>
                <a:tab algn="l" pos="3479760"/>
                <a:tab algn="l" pos="3936960"/>
                <a:tab algn="l" pos="4394160"/>
                <a:tab algn="l" pos="4851360"/>
                <a:tab algn="l" pos="5308560"/>
                <a:tab algn="l" pos="5765760"/>
                <a:tab algn="l" pos="6222960"/>
                <a:tab algn="l" pos="6680160"/>
                <a:tab algn="l" pos="7137360"/>
                <a:tab algn="l" pos="7594560"/>
                <a:tab algn="l" pos="8051760"/>
                <a:tab algn="l" pos="8508960"/>
                <a:tab algn="l" pos="8966160"/>
                <a:tab algn="l" pos="9423360"/>
                <a:tab algn="l" pos="98805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gothic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gothic"/>
              </a:rPr>
              <a:t>STO Cou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6560" indent="-279360">
              <a:lnSpc>
                <a:spcPct val="94000"/>
              </a:lnSpc>
              <a:spcBef>
                <a:spcPts val="451"/>
              </a:spcBef>
              <a:tabLst>
                <a:tab algn="l" pos="0"/>
                <a:tab algn="l" pos="736560"/>
                <a:tab algn="l" pos="1193760"/>
                <a:tab algn="l" pos="1650960"/>
                <a:tab algn="l" pos="2108160"/>
                <a:tab algn="l" pos="2565360"/>
                <a:tab algn="l" pos="3022560"/>
                <a:tab algn="l" pos="3479760"/>
                <a:tab algn="l" pos="3936960"/>
                <a:tab algn="l" pos="4394160"/>
                <a:tab algn="l" pos="4851360"/>
                <a:tab algn="l" pos="5308560"/>
                <a:tab algn="l" pos="5765760"/>
                <a:tab algn="l" pos="6222960"/>
                <a:tab algn="l" pos="6680160"/>
                <a:tab algn="l" pos="7137360"/>
                <a:tab algn="l" pos="7594560"/>
                <a:tab algn="l" pos="8051760"/>
                <a:tab algn="l" pos="8508960"/>
                <a:tab algn="l" pos="8966160"/>
                <a:tab algn="l" pos="9423360"/>
                <a:tab algn="l" pos="98805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gothic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gothic"/>
              </a:rPr>
              <a:t>JMP Loop    ; Jump back to start of loo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6560" indent="-279360">
              <a:lnSpc>
                <a:spcPct val="94000"/>
              </a:lnSpc>
              <a:spcBef>
                <a:spcPts val="451"/>
              </a:spcBef>
              <a:tabLst>
                <a:tab algn="l" pos="0"/>
                <a:tab algn="l" pos="736560"/>
                <a:tab algn="l" pos="1193760"/>
                <a:tab algn="l" pos="1650960"/>
                <a:tab algn="l" pos="2108160"/>
                <a:tab algn="l" pos="2565360"/>
                <a:tab algn="l" pos="3022560"/>
                <a:tab algn="l" pos="3479760"/>
                <a:tab algn="l" pos="3936960"/>
                <a:tab algn="l" pos="4394160"/>
                <a:tab algn="l" pos="4851360"/>
                <a:tab algn="l" pos="5308560"/>
                <a:tab algn="l" pos="5765760"/>
                <a:tab algn="l" pos="6222960"/>
                <a:tab algn="l" pos="6680160"/>
                <a:tab algn="l" pos="7137360"/>
                <a:tab algn="l" pos="7594560"/>
                <a:tab algn="l" pos="8051760"/>
                <a:tab algn="l" pos="8508960"/>
                <a:tab algn="l" pos="8966160"/>
                <a:tab algn="l" pos="9423360"/>
                <a:tab algn="l" pos="98805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6560" indent="-279360">
              <a:lnSpc>
                <a:spcPct val="94000"/>
              </a:lnSpc>
              <a:spcBef>
                <a:spcPts val="451"/>
              </a:spcBef>
              <a:tabLst>
                <a:tab algn="l" pos="0"/>
                <a:tab algn="l" pos="736560"/>
                <a:tab algn="l" pos="1193760"/>
                <a:tab algn="l" pos="1650960"/>
                <a:tab algn="l" pos="2108160"/>
                <a:tab algn="l" pos="2565360"/>
                <a:tab algn="l" pos="3022560"/>
                <a:tab algn="l" pos="3479760"/>
                <a:tab algn="l" pos="3936960"/>
                <a:tab algn="l" pos="4394160"/>
                <a:tab algn="l" pos="4851360"/>
                <a:tab algn="l" pos="5308560"/>
                <a:tab algn="l" pos="5765760"/>
                <a:tab algn="l" pos="6222960"/>
                <a:tab algn="l" pos="6680160"/>
                <a:tab algn="l" pos="7137360"/>
                <a:tab algn="l" pos="7594560"/>
                <a:tab algn="l" pos="8051760"/>
                <a:tab algn="l" pos="8508960"/>
                <a:tab algn="l" pos="8966160"/>
                <a:tab algn="l" pos="9423360"/>
                <a:tab algn="l" pos="98805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gothic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gothic"/>
              </a:rPr>
              <a:t>@1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6560" indent="-279360">
              <a:lnSpc>
                <a:spcPct val="94000"/>
              </a:lnSpc>
              <a:spcBef>
                <a:spcPts val="451"/>
              </a:spcBef>
              <a:tabLst>
                <a:tab algn="l" pos="0"/>
                <a:tab algn="l" pos="736560"/>
                <a:tab algn="l" pos="1193760"/>
                <a:tab algn="l" pos="1650960"/>
                <a:tab algn="l" pos="2108160"/>
                <a:tab algn="l" pos="2565360"/>
                <a:tab algn="l" pos="3022560"/>
                <a:tab algn="l" pos="3479760"/>
                <a:tab algn="l" pos="3936960"/>
                <a:tab algn="l" pos="4394160"/>
                <a:tab algn="l" pos="4851360"/>
                <a:tab algn="l" pos="5308560"/>
                <a:tab algn="l" pos="5765760"/>
                <a:tab algn="l" pos="6222960"/>
                <a:tab algn="l" pos="6680160"/>
                <a:tab algn="l" pos="7137360"/>
                <a:tab algn="l" pos="7594560"/>
                <a:tab algn="l" pos="8051760"/>
                <a:tab algn="l" pos="8508960"/>
                <a:tab algn="l" pos="8966160"/>
                <a:tab algn="l" pos="9423360"/>
                <a:tab algn="l" pos="98805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gothic"/>
              </a:rPr>
              <a:t>Count: data ;  Location to be used for count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1908000"/>
            <a:ext cx="1828800" cy="37594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lvl="1" marL="736560" indent="-279360">
              <a:lnSpc>
                <a:spcPct val="94000"/>
              </a:lnSpc>
              <a:spcBef>
                <a:spcPts val="451"/>
              </a:spcBef>
              <a:tabLst>
                <a:tab algn="l" pos="0"/>
                <a:tab algn="l" pos="736560"/>
                <a:tab algn="l" pos="1193760"/>
                <a:tab algn="l" pos="1650960"/>
                <a:tab algn="l" pos="2108160"/>
                <a:tab algn="l" pos="2565360"/>
                <a:tab algn="l" pos="3022560"/>
                <a:tab algn="l" pos="3479760"/>
                <a:tab algn="l" pos="3936960"/>
                <a:tab algn="l" pos="4394160"/>
                <a:tab algn="l" pos="4851360"/>
                <a:tab algn="l" pos="5308560"/>
                <a:tab algn="l" pos="5765760"/>
                <a:tab algn="l" pos="6222960"/>
                <a:tab algn="l" pos="6680160"/>
                <a:tab algn="l" pos="7137360"/>
                <a:tab algn="l" pos="7594560"/>
                <a:tab algn="l" pos="8051760"/>
                <a:tab algn="l" pos="8508960"/>
                <a:tab algn="l" pos="8966160"/>
                <a:tab algn="l" pos="9423360"/>
                <a:tab algn="l" pos="98805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gothic"/>
              </a:rPr>
              <a:t>LOD-C 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6560" indent="-279360">
              <a:lnSpc>
                <a:spcPct val="94000"/>
              </a:lnSpc>
              <a:spcBef>
                <a:spcPts val="451"/>
              </a:spcBef>
              <a:tabLst>
                <a:tab algn="l" pos="0"/>
                <a:tab algn="l" pos="736560"/>
                <a:tab algn="l" pos="1193760"/>
                <a:tab algn="l" pos="1650960"/>
                <a:tab algn="l" pos="2108160"/>
                <a:tab algn="l" pos="2565360"/>
                <a:tab algn="l" pos="3022560"/>
                <a:tab algn="l" pos="3479760"/>
                <a:tab algn="l" pos="3936960"/>
                <a:tab algn="l" pos="4394160"/>
                <a:tab algn="l" pos="4851360"/>
                <a:tab algn="l" pos="5308560"/>
                <a:tab algn="l" pos="5765760"/>
                <a:tab algn="l" pos="6222960"/>
                <a:tab algn="l" pos="6680160"/>
                <a:tab algn="l" pos="7137360"/>
                <a:tab algn="l" pos="7594560"/>
                <a:tab algn="l" pos="8051760"/>
                <a:tab algn="l" pos="8508960"/>
                <a:tab algn="l" pos="8966160"/>
                <a:tab algn="l" pos="9423360"/>
                <a:tab algn="l" pos="98805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gothic"/>
              </a:rPr>
              <a:t>STO 1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6560" indent="-279360">
              <a:lnSpc>
                <a:spcPct val="94000"/>
              </a:lnSpc>
              <a:spcBef>
                <a:spcPts val="451"/>
              </a:spcBef>
              <a:tabLst>
                <a:tab algn="l" pos="0"/>
                <a:tab algn="l" pos="736560"/>
                <a:tab algn="l" pos="1193760"/>
                <a:tab algn="l" pos="1650960"/>
                <a:tab algn="l" pos="2108160"/>
                <a:tab algn="l" pos="2565360"/>
                <a:tab algn="l" pos="3022560"/>
                <a:tab algn="l" pos="3479760"/>
                <a:tab algn="l" pos="3936960"/>
                <a:tab algn="l" pos="4394160"/>
                <a:tab algn="l" pos="4851360"/>
                <a:tab algn="l" pos="5308560"/>
                <a:tab algn="l" pos="5765760"/>
                <a:tab algn="l" pos="6222960"/>
                <a:tab algn="l" pos="6680160"/>
                <a:tab algn="l" pos="7137360"/>
                <a:tab algn="l" pos="7594560"/>
                <a:tab algn="l" pos="8051760"/>
                <a:tab algn="l" pos="8508960"/>
                <a:tab algn="l" pos="8966160"/>
                <a:tab algn="l" pos="9423360"/>
                <a:tab algn="l" pos="98805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gothic"/>
              </a:rPr>
              <a:t>LOD 1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6560" indent="-279360">
              <a:lnSpc>
                <a:spcPct val="94000"/>
              </a:lnSpc>
              <a:spcBef>
                <a:spcPts val="451"/>
              </a:spcBef>
              <a:tabLst>
                <a:tab algn="l" pos="0"/>
                <a:tab algn="l" pos="736560"/>
                <a:tab algn="l" pos="1193760"/>
                <a:tab algn="l" pos="1650960"/>
                <a:tab algn="l" pos="2108160"/>
                <a:tab algn="l" pos="2565360"/>
                <a:tab algn="l" pos="3022560"/>
                <a:tab algn="l" pos="3479760"/>
                <a:tab algn="l" pos="3936960"/>
                <a:tab algn="l" pos="4394160"/>
                <a:tab algn="l" pos="4851360"/>
                <a:tab algn="l" pos="5308560"/>
                <a:tab algn="l" pos="5765760"/>
                <a:tab algn="l" pos="6222960"/>
                <a:tab algn="l" pos="6680160"/>
                <a:tab algn="l" pos="7137360"/>
                <a:tab algn="l" pos="7594560"/>
                <a:tab algn="l" pos="8051760"/>
                <a:tab algn="l" pos="8508960"/>
                <a:tab algn="l" pos="8966160"/>
                <a:tab algn="l" pos="9423360"/>
                <a:tab algn="l" pos="98805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gothic"/>
              </a:rPr>
              <a:t>IN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6560" indent="-279360">
              <a:lnSpc>
                <a:spcPct val="94000"/>
              </a:lnSpc>
              <a:spcBef>
                <a:spcPts val="451"/>
              </a:spcBef>
              <a:tabLst>
                <a:tab algn="l" pos="0"/>
                <a:tab algn="l" pos="736560"/>
                <a:tab algn="l" pos="1193760"/>
                <a:tab algn="l" pos="1650960"/>
                <a:tab algn="l" pos="2108160"/>
                <a:tab algn="l" pos="2565360"/>
                <a:tab algn="l" pos="3022560"/>
                <a:tab algn="l" pos="3479760"/>
                <a:tab algn="l" pos="3936960"/>
                <a:tab algn="l" pos="4394160"/>
                <a:tab algn="l" pos="4851360"/>
                <a:tab algn="l" pos="5308560"/>
                <a:tab algn="l" pos="5765760"/>
                <a:tab algn="l" pos="6222960"/>
                <a:tab algn="l" pos="6680160"/>
                <a:tab algn="l" pos="7137360"/>
                <a:tab algn="l" pos="7594560"/>
                <a:tab algn="l" pos="8051760"/>
                <a:tab algn="l" pos="8508960"/>
                <a:tab algn="l" pos="8966160"/>
                <a:tab algn="l" pos="9423360"/>
                <a:tab algn="l" pos="98805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gothic"/>
              </a:rPr>
              <a:t>STO 1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6560" indent="-279360">
              <a:lnSpc>
                <a:spcPct val="94000"/>
              </a:lnSpc>
              <a:spcBef>
                <a:spcPts val="451"/>
              </a:spcBef>
              <a:tabLst>
                <a:tab algn="l" pos="0"/>
                <a:tab algn="l" pos="736560"/>
                <a:tab algn="l" pos="1193760"/>
                <a:tab algn="l" pos="1650960"/>
                <a:tab algn="l" pos="2108160"/>
                <a:tab algn="l" pos="2565360"/>
                <a:tab algn="l" pos="3022560"/>
                <a:tab algn="l" pos="3479760"/>
                <a:tab algn="l" pos="3936960"/>
                <a:tab algn="l" pos="4394160"/>
                <a:tab algn="l" pos="4851360"/>
                <a:tab algn="l" pos="5308560"/>
                <a:tab algn="l" pos="5765760"/>
                <a:tab algn="l" pos="6222960"/>
                <a:tab algn="l" pos="6680160"/>
                <a:tab algn="l" pos="7137360"/>
                <a:tab algn="l" pos="7594560"/>
                <a:tab algn="l" pos="8051760"/>
                <a:tab algn="l" pos="8508960"/>
                <a:tab algn="l" pos="8966160"/>
                <a:tab algn="l" pos="9423360"/>
                <a:tab algn="l" pos="98805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gothic"/>
              </a:rPr>
              <a:t>JMP 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Järgmiste loengute struktuu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762120"/>
            <a:ext cx="7848720" cy="751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8040" indent="-33804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oengud algavad riistvara tasemelt (alates transistorist) ja liiguvad üha suurema abstraktsuse suuna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8360" indent="-2811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Riistvar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8360" indent="-2811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Protsessori programmeerimine, assembl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8360" indent="-2811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Kõrgkeeled: mugavam programmeerimi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8360" indent="-2811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Suurte rakendussüsteemide kokkupanek, opsüsteem, komponentide kasutami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8360" indent="-2811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Võrgurakenduste kokkupanek: hulga arvutite kui rakenduse komponentide kasutami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8360" indent="-2811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Eriti võimsad kõrgkeeled, funktsionaalne ja loogiline programmeerimi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8360" indent="-2811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Teooriat: keerukus, lahenduvus: mida saab kui ruttu arvutada, mida saab üldse arvutad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8360" indent="-2811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Tehisintellek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8360" indent="-2811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IT äri ja juhtimine: kuidas raha saad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8360" indent="-28116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914400" y="301320"/>
            <a:ext cx="7770960" cy="307800"/>
            <a:chOff x="914400" y="301320"/>
            <a:chExt cx="7770960" cy="307800"/>
          </a:xfrm>
        </p:grpSpPr>
        <p:sp>
          <p:nvSpPr>
            <p:cNvPr id="57" name=""/>
            <p:cNvSpPr/>
            <p:nvPr/>
          </p:nvSpPr>
          <p:spPr>
            <a:xfrm>
              <a:off x="914400" y="606600"/>
              <a:ext cx="77691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8683560" y="301320"/>
              <a:ext cx="180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Sumto MIPS-I (SGI spinoff) assembleri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rgumendid registritesse $4 ja $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Resultaat registrisse $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umto:                  ; Register $4 on 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li   $3, 0       ; Register $3 on summ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li   $2, 0       ; Register $2 on i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blt  $4, $0, L3  ; Kui n&lt;0 mine L3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L5:    addu $3, $3, $2  ; sum = sum + i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addu $2, $2, 1   ; i = i + 1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ble  $2, $4, L5  ; Kui i&lt;=n mine L5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L3:    move $2, $3      ; Sum sisaldab resultaati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Jr   $31         ; Mine aadressile registris $31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914400" y="301320"/>
            <a:ext cx="7770960" cy="307800"/>
            <a:chOff x="914400" y="301320"/>
            <a:chExt cx="7770960" cy="307800"/>
          </a:xfrm>
        </p:grpSpPr>
        <p:sp>
          <p:nvSpPr>
            <p:cNvPr id="164" name=""/>
            <p:cNvSpPr/>
            <p:nvPr/>
          </p:nvSpPr>
          <p:spPr>
            <a:xfrm>
              <a:off x="914400" y="606600"/>
              <a:ext cx="77691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V="1">
              <a:off x="8683560" y="301320"/>
              <a:ext cx="180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Sumto ja Sun Sparc’i  assembler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parc saadab argumendid registrites %o0 kuni %o7  ja resultaadi %o0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nstruktsioon peale hüpet tehakse alati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_sumto:                 ; Register %o0 on n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mov %o0,%g3     ; Salvesta n registrisse %g3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mov 0,  %o0     ; Register %o0 on nyyd sum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cmp %o0,%g3     ; Kui 0&gt;n ..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bg  L3          ; ... mine L3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mov 0,  %g2     ; ,aga enne i=0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add %o0,%g2,%o0 ; sum = sum + i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L5:     add %g2,1  ,%g2 ; i = i + 1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cmp %g2,%g3     ; Kui i&lt;=n ..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ble,a L5        ; ... mine L5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add %o0,%g2,%o0 ; ,aga enne sum = sum + i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L3:     retl            ; Valmis..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nop                     ; ,aga enne ära tee midagi!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914400" y="301320"/>
            <a:ext cx="7770960" cy="307800"/>
            <a:chOff x="914400" y="301320"/>
            <a:chExt cx="7770960" cy="307800"/>
          </a:xfrm>
        </p:grpSpPr>
        <p:sp>
          <p:nvSpPr>
            <p:cNvPr id="169" name=""/>
            <p:cNvSpPr/>
            <p:nvPr/>
          </p:nvSpPr>
          <p:spPr>
            <a:xfrm>
              <a:off x="914400" y="606600"/>
              <a:ext cx="77691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V="1">
              <a:off x="8683560" y="301320"/>
              <a:ext cx="180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Sumto ja Intel 386, 486, Pentium, ..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838080" y="762120"/>
            <a:ext cx="7848720" cy="57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386 on vähe registreid, argument saadetakse hariliku mälu kaudu. Resultaat saadetakse registris %edx.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_sumto: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ushl %ebp         ; Loome ''framepointer’’-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movl  %esp,%ebp    ;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movl  8(%ebp),%ecx ; Võta n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xorl  %eax,%eax    ; sum = 0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xorl  %edx,%edx    ; i = 0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cmpl  %ecx,%eax    ; Kui i&gt;n ..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jg L3              ; ... mine L3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.align 2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L5:    addl  %edx,%eax    ; sum = sum + i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incl  %edx         ; i = i+1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cmpl  %ecx,%edx    ; Kui i&lt;=n ..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jle L5             ; ... mine L5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L3:    leave              ; Taasta ebp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ret                ; Valmis!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914400" y="301320"/>
            <a:ext cx="7770960" cy="307800"/>
            <a:chOff x="914400" y="301320"/>
            <a:chExt cx="7770960" cy="307800"/>
          </a:xfrm>
        </p:grpSpPr>
        <p:sp>
          <p:nvSpPr>
            <p:cNvPr id="174" name=""/>
            <p:cNvSpPr/>
            <p:nvPr/>
          </p:nvSpPr>
          <p:spPr>
            <a:xfrm>
              <a:off x="914400" y="606600"/>
              <a:ext cx="77691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V="1">
              <a:off x="8683560" y="301320"/>
              <a:ext cx="180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Alamprogrammide kasutami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8040" indent="-33804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lod-c 13  ; Set up to call the subroutine with sto N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; N1 = 13, N2 = 56, and ret_addr = back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lod-c 56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to N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lod-c back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to ret_add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jmp Multiply     ; Call the subroutine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back: lod Answer   ; When the subroutine ends, it retur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;    control to this location, and th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;    product of N1 and N2 is in Answer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;    This LOD instruction puts the answ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;    in the accumulator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hlt    ; Terminate the program by halting the comput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914400" y="301320"/>
            <a:ext cx="7770960" cy="307800"/>
            <a:chOff x="914400" y="301320"/>
            <a:chExt cx="7770960" cy="307800"/>
          </a:xfrm>
        </p:grpSpPr>
        <p:sp>
          <p:nvSpPr>
            <p:cNvPr id="179" name=""/>
            <p:cNvSpPr/>
            <p:nvPr/>
          </p:nvSpPr>
          <p:spPr>
            <a:xfrm>
              <a:off x="914400" y="606600"/>
              <a:ext cx="77691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8683560" y="301320"/>
              <a:ext cx="180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838080" y="-436680"/>
            <a:ext cx="7772400" cy="11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Olulisi põhimõtteid abstraktsioonide os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838080" y="762120"/>
            <a:ext cx="7848720" cy="839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8040" indent="-33804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õrgkeeled, komponendid, võrguvärk jms on vajalik ainult selleks, et arendaja saaks rakendusi kiiremini teha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rendaja mõtleb abstraktsioonide tasemel, aga lõpuks töötab kõik ikkagi transistoridel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Abstraktsioonid nö “tilguvad läbi”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: iga abstraktsiooni juures on vaja põhimõtteliselt aru saada, kuidas töötab alumine, vähem abstraktne tase. Alati on vahel vaja midagi allpool teha!!!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rendajal on reeglina kalduvus üle-abstraheerida! Süsteemi ehitamisel tuleb ise, meelega vähem abstraheerida, kui tahaks. Näiteks ei õnnestu enamasti tarkvara taaskasutus jne jne .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oe juurde: The law of leaky abstractions: http://www.joelonsoftware.com/articles/LeakyAbstraction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914400" y="301320"/>
            <a:ext cx="7770960" cy="307800"/>
            <a:chOff x="914400" y="301320"/>
            <a:chExt cx="7770960" cy="307800"/>
          </a:xfrm>
        </p:grpSpPr>
        <p:sp>
          <p:nvSpPr>
            <p:cNvPr id="62" name=""/>
            <p:cNvSpPr/>
            <p:nvPr/>
          </p:nvSpPr>
          <p:spPr>
            <a:xfrm>
              <a:off x="914400" y="606600"/>
              <a:ext cx="77691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flipV="1">
              <a:off x="8683560" y="301320"/>
              <a:ext cx="180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Ülevaade loengu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38080" y="762120"/>
            <a:ext cx="7848720" cy="80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8040" indent="-33804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Riistvara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8360" indent="-2811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Riistvara komponendi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8360" indent="-2811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Protsessori tööpõhimõ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rogrammeerimiskeelte hierarhia ja mehaanika (jätkub järgmine loeng)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8360" indent="-2811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Assembl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8360" indent="-2811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C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C ja assembl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C ja mäluhaldu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8360" indent="-2811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Kõrgema taseme keel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Prahikoristu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Listi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..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8360" indent="-28116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8360" indent="-281160">
              <a:lnSpc>
                <a:spcPct val="97000"/>
              </a:lnSpc>
              <a:spcBef>
                <a:spcPts val="400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914400" y="301320"/>
            <a:ext cx="7770960" cy="307800"/>
            <a:chOff x="914400" y="301320"/>
            <a:chExt cx="7770960" cy="307800"/>
          </a:xfrm>
        </p:grpSpPr>
        <p:sp>
          <p:nvSpPr>
            <p:cNvPr id="67" name=""/>
            <p:cNvSpPr/>
            <p:nvPr/>
          </p:nvSpPr>
          <p:spPr>
            <a:xfrm>
              <a:off x="914400" y="606600"/>
              <a:ext cx="77691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>
              <a:off x="8683560" y="301320"/>
              <a:ext cx="180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Komponend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838080" y="685800"/>
            <a:ext cx="7848720" cy="761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eamine idee: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transistorid kui “katkestusmootoriga” lüliti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                         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C = (A and -B)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Väikestest komponentidest ehitatakse suuremaid, millest omakorda veel suuremai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omponendid on kui mustad kastid: teame nende väljundit vastava sisendi korral, aga enamasti mitte nende tehnilist sisu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914400" y="301320"/>
            <a:ext cx="7770960" cy="307800"/>
            <a:chOff x="914400" y="301320"/>
            <a:chExt cx="7770960" cy="307800"/>
          </a:xfrm>
        </p:grpSpPr>
        <p:sp>
          <p:nvSpPr>
            <p:cNvPr id="72" name=""/>
            <p:cNvSpPr/>
            <p:nvPr/>
          </p:nvSpPr>
          <p:spPr>
            <a:xfrm>
              <a:off x="914400" y="606600"/>
              <a:ext cx="77691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V="1">
              <a:off x="8683560" y="301320"/>
              <a:ext cx="180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"/>
          <p:cNvSpPr/>
          <p:nvPr/>
        </p:nvSpPr>
        <p:spPr>
          <a:xfrm>
            <a:off x="3657600" y="2286000"/>
            <a:ext cx="1371600" cy="914400"/>
          </a:xfrm>
          <a:prstGeom prst="roundRect">
            <a:avLst>
              <a:gd name="adj" fmla="val 171"/>
            </a:avLst>
          </a:prstGeom>
          <a:solidFill>
            <a:srgbClr val="00cccc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371600" y="3048120"/>
            <a:ext cx="2209680" cy="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267080" y="1523880"/>
            <a:ext cx="1800" cy="68580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029200" y="3048120"/>
            <a:ext cx="1752480" cy="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59720" y="3184560"/>
            <a:ext cx="1454040" cy="824760"/>
          </a:xfrm>
          <a:prstGeom prst="roundRect">
            <a:avLst>
              <a:gd name="adj" fmla="val 19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send A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ool sees:   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ool väljas: 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245920" y="3184560"/>
            <a:ext cx="1454040" cy="824760"/>
          </a:xfrm>
          <a:prstGeom prst="roundRect">
            <a:avLst>
              <a:gd name="adj" fmla="val 19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äljund C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ool sees:   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ool väljas: 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334040" y="1432080"/>
            <a:ext cx="2433960" cy="824760"/>
          </a:xfrm>
          <a:prstGeom prst="roundRect">
            <a:avLst>
              <a:gd name="adj" fmla="val 19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Lüliti B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ool sees,  1:   katkest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ool väljas, 0:  ühend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Komponendid (Eck)</a:t>
            </a: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8040" indent="-33804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(A and C) or (B and (not C))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914400" y="301320"/>
            <a:ext cx="7770960" cy="307800"/>
            <a:chOff x="914400" y="301320"/>
            <a:chExt cx="7770960" cy="307800"/>
          </a:xfrm>
        </p:grpSpPr>
        <p:sp>
          <p:nvSpPr>
            <p:cNvPr id="84" name=""/>
            <p:cNvSpPr/>
            <p:nvPr/>
          </p:nvSpPr>
          <p:spPr>
            <a:xfrm>
              <a:off x="914400" y="606600"/>
              <a:ext cx="77691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flipV="1">
              <a:off x="8683560" y="301320"/>
              <a:ext cx="180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057400" y="1143000"/>
            <a:ext cx="5562720" cy="51688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Komponendid (Eck)</a:t>
            </a: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57200" y="762120"/>
            <a:ext cx="822960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8040" indent="-33804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NB! Loe ja harjuta nende simulaatoritega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95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http://math.hws.edu/TMCM/java/labs/xLogicCircuitsLab1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http://math.hws.edu/TMCM/java/labs/xLogicCircuitsLab2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                     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(A and (not B)) or (B and (not A))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914400" y="301320"/>
            <a:ext cx="7770960" cy="307800"/>
            <a:chOff x="914400" y="301320"/>
            <a:chExt cx="7770960" cy="307800"/>
          </a:xfrm>
        </p:grpSpPr>
        <p:sp>
          <p:nvSpPr>
            <p:cNvPr id="90" name=""/>
            <p:cNvSpPr/>
            <p:nvPr/>
          </p:nvSpPr>
          <p:spPr>
            <a:xfrm>
              <a:off x="914400" y="606600"/>
              <a:ext cx="77691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V="1">
              <a:off x="8683560" y="301320"/>
              <a:ext cx="180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371600" y="3886200"/>
            <a:ext cx="6858000" cy="16891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Neljabitine liitja (four-bit adder)</a:t>
            </a: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aheksa pluss kaks sisendjuhet, neli pluss üks väljundjuhe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97000"/>
              </a:lnSpc>
              <a:spcBef>
                <a:spcPts val="400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1011       1111       1111       1010       0111       000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0110       0001       1111       0101       1010       001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-----      -----      -----      -----      -----      ----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10001      10000      11110      01111      10001      001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914400" y="301320"/>
            <a:ext cx="7770960" cy="307800"/>
            <a:chOff x="914400" y="301320"/>
            <a:chExt cx="7770960" cy="307800"/>
          </a:xfrm>
        </p:grpSpPr>
        <p:sp>
          <p:nvSpPr>
            <p:cNvPr id="96" name=""/>
            <p:cNvSpPr/>
            <p:nvPr/>
          </p:nvSpPr>
          <p:spPr>
            <a:xfrm>
              <a:off x="914400" y="606600"/>
              <a:ext cx="77691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V="1">
              <a:off x="8683560" y="301320"/>
              <a:ext cx="180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219320" y="3219480"/>
            <a:ext cx="6553080" cy="28130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Mäl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agasisid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ülitatav tagasiside: trig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914400" y="301320"/>
            <a:ext cx="7770960" cy="307800"/>
            <a:chOff x="914400" y="301320"/>
            <a:chExt cx="7770960" cy="307800"/>
          </a:xfrm>
        </p:grpSpPr>
        <p:sp>
          <p:nvSpPr>
            <p:cNvPr id="102" name=""/>
            <p:cNvSpPr/>
            <p:nvPr/>
          </p:nvSpPr>
          <p:spPr>
            <a:xfrm>
              <a:off x="914400" y="606600"/>
              <a:ext cx="77691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flipV="1">
              <a:off x="8683560" y="301320"/>
              <a:ext cx="180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057400" y="1523880"/>
            <a:ext cx="5029200" cy="13176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1066680" y="4462560"/>
            <a:ext cx="6553440" cy="13478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anel Tammet</cp:lastModifiedBy>
  <cp:revision>0</cp:revision>
  <dc:subject/>
  <dc:title> </dc:title>
</cp:coreProperties>
</file>